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409-670F-48E3-A8F4-C2D15216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EE8-2C73-4C4A-8711-ECFE6EA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F16-7577-42C4-89F8-7702A71B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CAC-9920-4A45-9B9F-F64799C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4C7-8366-4E51-B8AC-716B814B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CFB-34ED-49F3-B9F0-EFA91D24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9E5-B5B0-4286-894D-61928E23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786-AE76-48A8-AB65-2ADC2BC8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575-7A31-49D9-B784-5EE1E0A2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9E2-32A3-42FE-8C59-51B1971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204-C872-4811-94EA-15FF8519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4B5-3AE1-4FF8-A717-5E9D4BA1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6B46-ED0E-4DB5-9D62-4BEE78657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84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Эмблема круг"/>
          <p:cNvPicPr/>
          <p:nvPr/>
        </p:nvPicPr>
        <p:blipFill>
          <a:blip r:embed="rId2"/>
          <a:stretch/>
        </p:blipFill>
        <p:spPr>
          <a:xfrm>
            <a:off x="2060640" y="810108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10760" y="795600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20:31:48Z</dcterms:created>
  <dc:creator>Helen</dc:creator>
  <dc:description/>
  <dc:language>en-US</dc:language>
  <cp:lastModifiedBy>Берюхов</cp:lastModifiedBy>
  <dcterms:modified xsi:type="dcterms:W3CDTF">2025-06-20T16:36:56Z</dcterms:modified>
  <cp:revision>5</cp:revision>
  <dc:subject/>
  <dc:title>Слайд 1</dc:title>
</cp:coreProperties>
</file>